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ECA-9C69-4115-A2A8-3C99BB0E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7DF-DBDC-4A3E-ADBF-9441763A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7DE-DDF5-4750-A904-7588B841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A25-441E-48D9-AB01-6806504E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0218-4D16-4D1E-B95E-8FAEFCEB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F675-DB34-4E13-BEAB-65E3B282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890E-2363-4A17-8F83-DA76E9D3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AE3E-321C-41AA-A234-43EDABCC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2420-7EC3-46DF-AE0F-BA8C649E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B8ED-69C4-4122-8A6E-46EDB571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A292-7264-4A83-9551-AEC9E1B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9A0-F989-42B6-98AC-3D78F571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2D0E-6BBA-48A8-8125-AB344C04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4FB2-4018-48B0-9CDC-B93A7BC7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52D8-7468-45FF-A033-4643F00C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BF42-F4BD-42ED-9B6D-CF016B58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65A8-041E-4F7C-8DBF-59B3506C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9F4-27DE-4790-8BD9-D87C6BEE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0DF-4778-40B9-B82A-82EA9A10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4EF-AC36-4F08-AF0F-FBEED783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C1E-FFDF-486A-8A53-DD209180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EE0-EB51-48D3-81B5-CA769B3C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466-B84B-4FFD-9627-E58A4642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4EB-A46C-44B8-925A-394C70B5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FC68-B805-47E1-AFF6-1D866BA971B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762E-F82A-4CB9-99E6-71854EA062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3097440" cy="2664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2781360"/>
            <a:ext cx="7417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6633"/>
                </a:solidFill>
                <a:latin typeface="Garamond"/>
              </a:rPr>
              <a:t>ВЫЧИСЛЕНИЯ </a:t>
            </a:r>
            <a:br>
              <a:rPr sz="6300"/>
            </a:br>
            <a:r>
              <a:rPr b="1" lang="en-US" sz="6300" spc="-1" strike="noStrike">
                <a:solidFill>
                  <a:srgbClr val="006633"/>
                </a:solidFill>
                <a:latin typeface="Garamond"/>
              </a:rPr>
              <a:t>по химическим уравнениям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258920" y="1557360"/>
            <a:ext cx="2736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Cu)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=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32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V(H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) –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M(Cu) = 64 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г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Vm = 22,4 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л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95280" y="1484280"/>
            <a:ext cx="4824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x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моль     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                   0,5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H</a:t>
            </a:r>
            <a:r>
              <a:rPr b="1" lang="en-US" sz="22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 + CuO = H</a:t>
            </a:r>
            <a:r>
              <a:rPr b="1" lang="en-US" sz="22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O + 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Bookman Old Style"/>
              </a:rPr>
              <a:t>  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1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моль         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        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 1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(Cu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32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(Cu)=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 =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0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,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5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64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г/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x = n(H</a:t>
            </a:r>
            <a:r>
              <a:rPr b="1" lang="en-US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 = n(Cu) = 0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,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5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V(H</a:t>
            </a:r>
            <a:r>
              <a:rPr b="1" lang="en-US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) =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(H</a:t>
            </a:r>
            <a:r>
              <a:rPr b="1" lang="en-US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·Vm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0,5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·22,4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л/моль =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1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1,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3300"/>
                </a:solidFill>
                <a:latin typeface="Bookman Old Style"/>
              </a:rPr>
              <a:t>       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Ответ: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V(H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)  =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11,2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33440" y="1484280"/>
            <a:ext cx="2517480" cy="2016000"/>
            <a:chOff x="1333440" y="1484280"/>
            <a:chExt cx="2517480" cy="2016000"/>
          </a:xfrm>
        </p:grpSpPr>
        <p:sp>
          <p:nvSpPr>
            <p:cNvPr id="162" name=""/>
            <p:cNvSpPr/>
            <p:nvPr/>
          </p:nvSpPr>
          <p:spPr>
            <a:xfrm>
              <a:off x="1333440" y="2852640"/>
              <a:ext cx="25174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50920" y="148428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11280" y="228600"/>
            <a:ext cx="838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Bookman Old Style"/>
              </a:rPr>
              <a:t>Рассчитайте, какой объем водорода должен вступить в реакцию с оксидом меди </a:t>
            </a:r>
            <a:r>
              <a:rPr b="1" i="1" lang="en-US" sz="2400" spc="-1" strike="noStrike">
                <a:solidFill>
                  <a:srgbClr val="cc3300"/>
                </a:solidFill>
                <a:latin typeface="Bookman Old Style"/>
              </a:rPr>
              <a:t>(II)</a:t>
            </a:r>
            <a:r>
              <a:rPr b="1" i="1" lang="ru-RU" sz="2400" spc="-1" strike="noStrike">
                <a:solidFill>
                  <a:srgbClr val="cc3300"/>
                </a:solidFill>
                <a:latin typeface="Bookman Old Style"/>
              </a:rPr>
              <a:t>, чтобы образовалось 32 г ме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31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400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lastslide"/>
          </p:cNvPr>
          <p:cNvSpPr/>
          <p:nvPr/>
        </p:nvSpPr>
        <p:spPr>
          <a:xfrm>
            <a:off x="32400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Bookman Old Style"/>
              </a:rPr>
              <a:t>П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8360" y="6165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6009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33"/>
                </a:solidFill>
                <a:latin typeface="Bookman Old Style"/>
              </a:rPr>
              <a:t>САМОСТОЯТЕЛЬНАЯ РАБОТА: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996600"/>
                </a:solidFill>
                <a:uFillTx/>
                <a:latin typeface="Bookman Old Style"/>
              </a:rPr>
              <a:t>ВАРИАНТ 1</a:t>
            </a:r>
            <a:r>
              <a:rPr b="0" lang="ru-RU" sz="2600" spc="-1" strike="noStrike">
                <a:solidFill>
                  <a:srgbClr val="996600"/>
                </a:solidFill>
                <a:latin typeface="Bookman Old Style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Bookman Old Style"/>
              </a:rPr>
              <a:t>  </a:t>
            </a:r>
            <a:r>
              <a:rPr b="1" i="1" lang="ru-RU" sz="2600" spc="-1" strike="noStrike">
                <a:solidFill>
                  <a:srgbClr val="996600"/>
                </a:solidFill>
                <a:latin typeface="Bookman Old Style"/>
              </a:rPr>
              <a:t>Вычислите массу меди, котор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Bookman Old Style"/>
              </a:rPr>
              <a:t>образуется при восстановл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Bookman Old Style"/>
              </a:rPr>
              <a:t>избытком водорода 4 г оксида меди (II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Bookman Old Style"/>
              </a:rPr>
              <a:t>CuO + H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Bookman Old Style"/>
              </a:rPr>
              <a:t>2</a:t>
            </a:r>
            <a:r>
              <a:rPr b="1" lang="en-US" sz="2600" spc="-1" strike="noStrike">
                <a:solidFill>
                  <a:srgbClr val="996600"/>
                </a:solidFill>
                <a:latin typeface="Bookman Old Style"/>
              </a:rPr>
              <a:t> = Cu + H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Bookman Old Style"/>
              </a:rPr>
              <a:t>2</a:t>
            </a:r>
            <a:r>
              <a:rPr b="1" lang="en-US" sz="2600" spc="-1" strike="noStrike">
                <a:solidFill>
                  <a:srgbClr val="996600"/>
                </a:solidFill>
                <a:latin typeface="Bookman Old Style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996600"/>
                </a:solidFill>
                <a:uFillTx/>
                <a:latin typeface="Bookman Old Style"/>
              </a:rPr>
              <a:t>ВАРИАНТ 2</a:t>
            </a:r>
            <a:r>
              <a:rPr b="0" lang="ru-RU" sz="2600" spc="-1" strike="noStrike">
                <a:solidFill>
                  <a:srgbClr val="996600"/>
                </a:solidFill>
                <a:latin typeface="Bookman Old Style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Bookman Old Style"/>
              </a:rPr>
              <a:t>   </a:t>
            </a:r>
            <a:r>
              <a:rPr b="1" i="1" lang="ru-RU" sz="2600" spc="-1" strike="noStrike">
                <a:solidFill>
                  <a:srgbClr val="996600"/>
                </a:solidFill>
                <a:latin typeface="Bookman Old Style"/>
              </a:rPr>
              <a:t>В реакцию с серной кислотой вступи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Bookman Old Style"/>
              </a:rPr>
              <a:t>20 г гидроксида натрия. Рассчитайте масс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Bookman Old Style"/>
              </a:rPr>
              <a:t>образовавшейся соли.</a:t>
            </a:r>
            <a:r>
              <a:rPr b="1" i="1" lang="ru-RU" sz="3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Bookman Old Style"/>
              </a:rPr>
              <a:t>2NaOH + H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Bookman Old Style"/>
              </a:rPr>
              <a:t>2</a:t>
            </a:r>
            <a:r>
              <a:rPr b="1" lang="en-US" sz="2600" spc="-1" strike="noStrike">
                <a:solidFill>
                  <a:srgbClr val="996600"/>
                </a:solidFill>
                <a:latin typeface="Bookman Old Style"/>
              </a:rPr>
              <a:t>SO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Bookman Old Style"/>
              </a:rPr>
              <a:t>4</a:t>
            </a:r>
            <a:r>
              <a:rPr b="1" lang="en-US" sz="2600" spc="-1" strike="noStrike">
                <a:solidFill>
                  <a:srgbClr val="996600"/>
                </a:solidFill>
                <a:latin typeface="Bookman Old Style"/>
              </a:rPr>
              <a:t> = Na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Bookman Old Style"/>
              </a:rPr>
              <a:t>2</a:t>
            </a:r>
            <a:r>
              <a:rPr b="1" lang="en-US" sz="2600" spc="-1" strike="noStrike">
                <a:solidFill>
                  <a:srgbClr val="996600"/>
                </a:solidFill>
                <a:latin typeface="Bookman Old Style"/>
              </a:rPr>
              <a:t>SO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Bookman Old Style"/>
              </a:rPr>
              <a:t>4</a:t>
            </a:r>
            <a:r>
              <a:rPr b="1" lang="en-US" sz="2600" spc="-1" strike="noStrike">
                <a:solidFill>
                  <a:srgbClr val="996600"/>
                </a:solidFill>
                <a:latin typeface="Bookman Old Style"/>
              </a:rPr>
              <a:t> + 2H</a:t>
            </a:r>
            <a:r>
              <a:rPr b="1" lang="en-US" sz="2600" spc="-1" strike="noStrike" baseline="-25000">
                <a:solidFill>
                  <a:srgbClr val="996600"/>
                </a:solidFill>
                <a:latin typeface="Bookman Old Style"/>
              </a:rPr>
              <a:t>2</a:t>
            </a:r>
            <a:r>
              <a:rPr b="1" lang="en-US" sz="2600" spc="-1" strike="noStrike">
                <a:solidFill>
                  <a:srgbClr val="996600"/>
                </a:solidFill>
                <a:latin typeface="Bookman Old Style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8360" y="6165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1628640"/>
            <a:ext cx="8039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6600"/>
                </a:solidFill>
                <a:latin typeface="Bookman Old Style"/>
              </a:rPr>
              <a:t>Рассчитайте, какая масса кислорода образуется при разложении 108 г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6600"/>
                </a:solidFill>
                <a:latin typeface="Bookman Old Style"/>
              </a:rPr>
              <a:t>Вычислите объем газа, который образуется при взаимодействии цинка с раствором, содержащим 0,4 моль соляной кисл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006633"/>
                </a:solidFill>
                <a:uFillTx/>
                <a:latin typeface="Garamond"/>
              </a:rPr>
              <a:t>РЕШИ ЗАДАЧИ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484360" y="403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8360" y="6165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006633"/>
                </a:solidFill>
                <a:uFillTx/>
                <a:latin typeface="Garamond"/>
              </a:rPr>
              <a:t>ДОМАШНЕЕ ЗАДАНИЕ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§ 17 (с. 45—47), задачи 1, 2 (с. 48)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326556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792000" cy="620640"/>
          </a:xfrm>
          <a:custGeom>
            <a:avLst/>
            <a:gdLst>
              <a:gd name="textAreaLeft" fmla="*/ 39960 w 792000"/>
              <a:gd name="textAreaRight" fmla="*/ 752040 w 79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60" h="21600">
                <a:moveTo>
                  <a:pt x="0" y="0"/>
                </a:moveTo>
                <a:lnTo>
                  <a:pt x="27560" y="0"/>
                </a:lnTo>
                <a:lnTo>
                  <a:pt x="27560" y="21600"/>
                </a:lnTo>
                <a:lnTo>
                  <a:pt x="0" y="21600"/>
                </a:lnTo>
                <a:close/>
              </a:path>
              <a:path fill="lightenLess" w="27560" h="21600">
                <a:moveTo>
                  <a:pt x="0" y="0"/>
                </a:moveTo>
                <a:lnTo>
                  <a:pt x="27560" y="0"/>
                </a:lnTo>
                <a:lnTo>
                  <a:pt x="26160" y="1400"/>
                </a:lnTo>
                <a:lnTo>
                  <a:pt x="1400" y="1400"/>
                </a:lnTo>
                <a:close/>
              </a:path>
              <a:path fill="darken" w="27560" h="21600">
                <a:moveTo>
                  <a:pt x="27560" y="0"/>
                </a:moveTo>
                <a:lnTo>
                  <a:pt x="27560" y="21600"/>
                </a:lnTo>
                <a:lnTo>
                  <a:pt x="26160" y="20200"/>
                </a:lnTo>
                <a:lnTo>
                  <a:pt x="26160" y="1400"/>
                </a:lnTo>
                <a:close/>
              </a:path>
              <a:path fill="darkenLess" w="27560" h="21600">
                <a:moveTo>
                  <a:pt x="2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60" y="20200"/>
                </a:lnTo>
                <a:close/>
              </a:path>
              <a:path fill="lighten" w="2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60" h="21600">
                <a:moveTo>
                  <a:pt x="6774" y="7493"/>
                </a:moveTo>
                <a:lnTo>
                  <a:pt x="10281" y="7493"/>
                </a:lnTo>
                <a:lnTo>
                  <a:pt x="10281" y="12828"/>
                </a:lnTo>
                <a:cubicBezTo>
                  <a:pt x="10281" y="13751"/>
                  <a:pt x="11082" y="14482"/>
                  <a:pt x="12118" y="14482"/>
                </a:cubicBezTo>
                <a:lnTo>
                  <a:pt x="13780" y="14482"/>
                </a:lnTo>
                <a:cubicBezTo>
                  <a:pt x="14816" y="14482"/>
                  <a:pt x="15617" y="13751"/>
                  <a:pt x="15617" y="12828"/>
                </a:cubicBezTo>
                <a:lnTo>
                  <a:pt x="15617" y="7493"/>
                </a:lnTo>
                <a:lnTo>
                  <a:pt x="13780" y="7493"/>
                </a:lnTo>
                <a:lnTo>
                  <a:pt x="17288" y="3985"/>
                </a:lnTo>
                <a:lnTo>
                  <a:pt x="20961" y="7493"/>
                </a:lnTo>
                <a:lnTo>
                  <a:pt x="19124" y="7493"/>
                </a:lnTo>
                <a:lnTo>
                  <a:pt x="19124" y="12828"/>
                </a:lnTo>
                <a:cubicBezTo>
                  <a:pt x="19124" y="15596"/>
                  <a:pt x="16548" y="18155"/>
                  <a:pt x="13780" y="18155"/>
                </a:cubicBezTo>
                <a:lnTo>
                  <a:pt x="12118" y="18155"/>
                </a:lnTo>
                <a:cubicBezTo>
                  <a:pt x="9350" y="18155"/>
                  <a:pt x="6774" y="15596"/>
                  <a:pt x="6774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92360" y="1197000"/>
            <a:ext cx="698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33"/>
                </a:solidFill>
                <a:uFillTx/>
                <a:latin typeface="Bookman Old Style"/>
              </a:rPr>
              <a:t>Цель:</a:t>
            </a:r>
            <a:r>
              <a:rPr b="0" lang="en-US" sz="3200" spc="-1" strike="noStrike">
                <a:solidFill>
                  <a:srgbClr val="afbf39"/>
                </a:solidFill>
                <a:latin typeface="Bookman Old Style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научить вести расчеты по уравнению химической реакции, зная количество вещества, массу или объем одного из исходных веществ или продуктов реа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33"/>
                </a:solidFill>
                <a:uFillTx/>
                <a:latin typeface="Bookman Old Style"/>
              </a:rPr>
              <a:t>Алгоритм решение задач по уравнению химической реа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имательно читаем условие задачи. Определяем, какие вещества исходные, а какие – продукты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ываем данный химический процесс в виде уравнения химической реакции, расставляем коэффици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коэффициентам определяем и записываем под формулами значения величин химического количества тех веществ, для которых есть данные (массы, химического количества вещества и др.) или стоит вопрос в условии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д формулами веществ записываем величину химического количества вещества, известную по условию задачи или найденную для данного значения массы по формул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ляем и решаем пропорцию исходя из количественных соотношений. таким образом находим искомое химическое количество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по условию задачи необходимо вычислить массу вещества, то рассчитываем ее по формул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ываем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96560" y="378000"/>
            <a:ext cx="6951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Bookman Old Style"/>
              </a:rPr>
              <a:t>Вычислить массу </a:t>
            </a:r>
            <a:r>
              <a:rPr b="1" i="1" lang="en-US" sz="2400" spc="-1" strike="noStrike">
                <a:solidFill>
                  <a:srgbClr val="cc3300"/>
                </a:solidFill>
                <a:latin typeface="Bookman Old Style"/>
              </a:rPr>
              <a:t>FeCl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Bookman Old Style"/>
              </a:rPr>
              <a:t>3</a:t>
            </a:r>
            <a:r>
              <a:rPr b="1" i="1" lang="ru-RU" sz="2400" spc="-1" strike="noStrike">
                <a:solidFill>
                  <a:srgbClr val="cc3300"/>
                </a:solidFill>
                <a:latin typeface="Bookman Old Style"/>
              </a:rPr>
              <a:t>, образующего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Bookman Old Style"/>
              </a:rPr>
              <a:t>при взаимодействии 224г железа с хл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2736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Fe)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=224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(FeCl</a:t>
            </a:r>
            <a:r>
              <a:rPr b="1" lang="ru-RU" sz="2000" spc="-1" strike="noStrike" baseline="-25000">
                <a:solidFill>
                  <a:srgbClr val="663300"/>
                </a:solidFill>
                <a:latin typeface="Bookman Old Style"/>
              </a:rPr>
              <a:t>3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) –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00536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(F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56 г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060640"/>
            <a:ext cx="19447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1268280"/>
            <a:ext cx="0" cy="1368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60560" y="1823040"/>
            <a:ext cx="233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Fe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+ 3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Cl</a:t>
            </a:r>
            <a:r>
              <a:rPr b="1" lang="ru-RU" sz="20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= 2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FeCl</a:t>
            </a:r>
            <a:r>
              <a:rPr b="1" lang="ru-RU" sz="2000" spc="-1" strike="noStrike" baseline="-25000">
                <a:solidFill>
                  <a:srgbClr val="6633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12466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х 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39600" y="2275560"/>
            <a:ext cx="25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2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моль        2 м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285264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F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(Fe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F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284640"/>
            <a:ext cx="720720" cy="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781360"/>
            <a:ext cx="374508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224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(Fe)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=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=  4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56 г/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3284640"/>
            <a:ext cx="720720" cy="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4562280"/>
            <a:ext cx="3084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FeCl</a:t>
            </a:r>
            <a:r>
              <a:rPr b="1" lang="ru-RU" sz="1800" spc="-1" strike="noStrike" baseline="-25000">
                <a:solidFill>
                  <a:srgbClr val="663300"/>
                </a:solidFill>
                <a:latin typeface="Bookman Old Style"/>
              </a:rPr>
              <a:t>3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) = 4моль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4880" y="5281200"/>
            <a:ext cx="574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FeCl</a:t>
            </a:r>
            <a:r>
              <a:rPr b="1" lang="ru-RU" sz="1800" spc="-1" strike="noStrike" baseline="-25000">
                <a:solidFill>
                  <a:srgbClr val="663300"/>
                </a:solidFill>
                <a:latin typeface="Bookman Old Style"/>
              </a:rPr>
              <a:t>3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) = 4 моль х 162,5 г/моль = 650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10040" y="5783760"/>
            <a:ext cx="43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Ответ: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FeCl</a:t>
            </a:r>
            <a:r>
              <a:rPr b="1" lang="ru-RU" sz="2000" spc="-1" strike="noStrike" baseline="-25000">
                <a:solidFill>
                  <a:srgbClr val="663300"/>
                </a:solidFill>
                <a:latin typeface="Bookman Old Style"/>
              </a:rPr>
              <a:t>3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) = 650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lastslide"/>
          </p:cNvPr>
          <p:cNvSpPr/>
          <p:nvPr/>
        </p:nvSpPr>
        <p:spPr>
          <a:xfrm>
            <a:off x="39528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Bookman Old Style"/>
              </a:rPr>
              <a:t>П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8360" y="6165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3645000"/>
            <a:ext cx="719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Составляем пропорцию:      4 моль        х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             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2 моль        2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                                    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о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6920" y="124632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4 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94172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M (FeCl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=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56+35,5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·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3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=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162,5 г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71600" y="1657080"/>
            <a:ext cx="2450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Да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n(H</a:t>
            </a:r>
            <a:r>
              <a:rPr b="1" lang="ru-RU" sz="22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) =1,5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n(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Al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) –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0" y="1484280"/>
            <a:ext cx="504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x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моль                                1,5 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Bookman Old Style"/>
              </a:rPr>
              <a:t>2Al + 6HCl = </a:t>
            </a:r>
            <a:r>
              <a:rPr b="1" lang="ru-RU" sz="2600" spc="-1" strike="noStrike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600" spc="-1" strike="noStrike">
                <a:solidFill>
                  <a:srgbClr val="663300"/>
                </a:solidFill>
                <a:latin typeface="Bookman Old Style"/>
              </a:rPr>
              <a:t>AlCl</a:t>
            </a:r>
            <a:r>
              <a:rPr b="1" lang="en-US" sz="2600" spc="-1" strike="noStrike" baseline="-25000">
                <a:solidFill>
                  <a:srgbClr val="663300"/>
                </a:solidFill>
                <a:latin typeface="Bookman Old Style"/>
              </a:rPr>
              <a:t>3</a:t>
            </a:r>
            <a:r>
              <a:rPr b="1" lang="en-US" sz="2600" spc="-1" strike="noStrike">
                <a:solidFill>
                  <a:srgbClr val="663300"/>
                </a:solidFill>
                <a:latin typeface="Bookman Old Style"/>
              </a:rPr>
              <a:t> + 3H</a:t>
            </a:r>
            <a:r>
              <a:rPr b="1" lang="en-US" sz="26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600" spc="-1" strike="noStrike">
                <a:solidFill>
                  <a:srgbClr val="663300"/>
                </a:solidFill>
                <a:latin typeface="Bookman Old Style"/>
              </a:rPr>
              <a:t>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2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моль                                3 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Составляем пропорц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x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моль          1,5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2 моль            3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2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·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1,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x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x = 1 (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мо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Ответ: n(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Al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) = 1 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Bookman Old Style"/>
              </a:rPr>
              <a:t>Рассчитайте количество вещества алюминия, который потребуется для получения 1,5 моль водорода при реакции с соляной кислотой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33440" y="1484280"/>
            <a:ext cx="2374920" cy="2016000"/>
            <a:chOff x="1333440" y="1484280"/>
            <a:chExt cx="2374920" cy="2016000"/>
          </a:xfrm>
        </p:grpSpPr>
        <p:sp>
          <p:nvSpPr>
            <p:cNvPr id="114" name=""/>
            <p:cNvSpPr/>
            <p:nvPr/>
          </p:nvSpPr>
          <p:spPr>
            <a:xfrm>
              <a:off x="1333440" y="285264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08360" y="148428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22764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378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458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lastslide"/>
          </p:cNvPr>
          <p:cNvSpPr/>
          <p:nvPr/>
        </p:nvSpPr>
        <p:spPr>
          <a:xfrm>
            <a:off x="32400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Bookman Old Style"/>
              </a:rPr>
              <a:t>П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388360" y="6165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71600" y="1657080"/>
            <a:ext cx="2768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Да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n(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Al</a:t>
            </a:r>
            <a:r>
              <a:rPr b="1" lang="en-US" sz="22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S</a:t>
            </a:r>
            <a:r>
              <a:rPr b="1" lang="en-US" sz="2200" spc="-1" strike="noStrike" baseline="-25000">
                <a:solidFill>
                  <a:srgbClr val="663300"/>
                </a:solidFill>
                <a:latin typeface="Bookman Old Style"/>
              </a:rPr>
              <a:t>3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) =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,5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n(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S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) –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4679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                    </a:t>
            </a:r>
            <a:r>
              <a:rPr b="1" lang="en-US" sz="2100" spc="-1" strike="noStrike">
                <a:solidFill>
                  <a:srgbClr val="663300"/>
                </a:solidFill>
                <a:latin typeface="Bookman Old Style"/>
              </a:rPr>
              <a:t>x</a:t>
            </a:r>
            <a:r>
              <a:rPr b="1" lang="ru-RU" sz="2100" spc="-1" strike="noStrike">
                <a:solidFill>
                  <a:srgbClr val="663300"/>
                </a:solidFill>
                <a:latin typeface="Bookman Old Style"/>
              </a:rPr>
              <a:t> моль   </a:t>
            </a:r>
            <a:r>
              <a:rPr b="1" lang="en-US" sz="2100" spc="-1" strike="noStrike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2100" spc="-1" strike="noStrike">
                <a:solidFill>
                  <a:srgbClr val="663300"/>
                </a:solidFill>
                <a:latin typeface="Bookman Old Style"/>
              </a:rPr>
              <a:t>,5 мо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en-US" sz="3100" spc="-1" strike="noStrike">
                <a:solidFill>
                  <a:srgbClr val="663300"/>
                </a:solidFill>
                <a:latin typeface="Bookman Old Style"/>
              </a:rPr>
              <a:t>2Al + 3S = Al</a:t>
            </a:r>
            <a:r>
              <a:rPr b="1" lang="en-US" sz="31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3100" spc="-1" strike="noStrike">
                <a:solidFill>
                  <a:srgbClr val="663300"/>
                </a:solidFill>
                <a:latin typeface="Bookman Old Style"/>
              </a:rPr>
              <a:t>S</a:t>
            </a:r>
            <a:r>
              <a:rPr b="1" lang="en-US" sz="3100" spc="-1" strike="noStrike" baseline="-25000">
                <a:solidFill>
                  <a:srgbClr val="663300"/>
                </a:solidFill>
                <a:latin typeface="Bookman Old Style"/>
              </a:rPr>
              <a:t>3</a:t>
            </a:r>
            <a:r>
              <a:rPr b="1" lang="en-US" sz="2600" spc="-1" strike="noStrike">
                <a:solidFill>
                  <a:srgbClr val="66330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                    </a:t>
            </a:r>
            <a:r>
              <a:rPr b="1" lang="en-US" sz="2100" spc="-1" strike="noStrike">
                <a:solidFill>
                  <a:srgbClr val="663300"/>
                </a:solidFill>
                <a:latin typeface="Bookman Old Style"/>
              </a:rPr>
              <a:t>3 </a:t>
            </a:r>
            <a:r>
              <a:rPr b="1" lang="ru-RU" sz="2100" spc="-1" strike="noStrike">
                <a:solidFill>
                  <a:srgbClr val="663300"/>
                </a:solidFill>
                <a:latin typeface="Bookman Old Style"/>
              </a:rPr>
              <a:t>моль  </a:t>
            </a:r>
            <a:r>
              <a:rPr b="1" lang="en-US" sz="2100" spc="-1" strike="noStrike">
                <a:solidFill>
                  <a:srgbClr val="663300"/>
                </a:solidFill>
                <a:latin typeface="Bookman Old Style"/>
              </a:rPr>
              <a:t>1</a:t>
            </a:r>
            <a:r>
              <a:rPr b="1" lang="ru-RU" sz="21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x = 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n(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S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) 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= 3 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n(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Al</a:t>
            </a:r>
            <a:r>
              <a:rPr b="1" lang="en-US" sz="22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S</a:t>
            </a:r>
            <a:r>
              <a:rPr b="1" lang="en-US" sz="2200" spc="-1" strike="noStrike" baseline="-25000">
                <a:solidFill>
                  <a:srgbClr val="663300"/>
                </a:solidFill>
                <a:latin typeface="Bookman Old Style"/>
              </a:rPr>
              <a:t>3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)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= 3·2,5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 = 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7,5 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Ответ: n(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S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) = 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7,5</a:t>
            </a:r>
            <a:r>
              <a:rPr b="1" lang="ru-RU" sz="22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619280" y="1413000"/>
            <a:ext cx="2374920" cy="2016000"/>
            <a:chOff x="1619280" y="1413000"/>
            <a:chExt cx="2374920" cy="2016000"/>
          </a:xfrm>
        </p:grpSpPr>
        <p:sp>
          <p:nvSpPr>
            <p:cNvPr id="124" name=""/>
            <p:cNvSpPr/>
            <p:nvPr/>
          </p:nvSpPr>
          <p:spPr>
            <a:xfrm>
              <a:off x="1619280" y="278136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94200" y="141300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68360" y="228600"/>
            <a:ext cx="852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Bookman Old Style"/>
              </a:rPr>
              <a:t>Определите количество вещества серы, необходимое для получения 2,5 моль сульфида алюми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2400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Bookman Old Style"/>
              </a:rPr>
              <a:t>П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8360" y="6165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8920" y="1557360"/>
            <a:ext cx="2736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Cu(O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H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)</a:t>
            </a:r>
            <a:r>
              <a:rPr b="1" lang="ru-RU" sz="20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=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14,7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m(CuO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) –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M(Cu(OH)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64+(16+1)·2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98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г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M(CuO)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=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64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+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16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=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80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г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5280" y="1484280"/>
            <a:ext cx="4824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0,15 моль     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x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Cu(OH)</a:t>
            </a:r>
            <a:r>
              <a:rPr b="1" lang="en-US" sz="22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 = CuO + H</a:t>
            </a:r>
            <a:r>
              <a:rPr b="1" lang="en-US" sz="22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200" spc="-1" strike="noStrike">
                <a:solidFill>
                  <a:srgbClr val="663300"/>
                </a:solidFill>
                <a:latin typeface="Bookman Old Style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1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моль         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1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3300"/>
                </a:solidFill>
                <a:latin typeface="Bookman Old Style"/>
              </a:rPr>
              <a:t>                      </a:t>
            </a:r>
            <a:r>
              <a:rPr b="1" lang="ru-RU" sz="1100" spc="-1" strike="noStrike">
                <a:solidFill>
                  <a:srgbClr val="663300"/>
                </a:solidFill>
                <a:latin typeface="Bookman Old Style"/>
              </a:rPr>
              <a:t>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Cu(O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H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</a:t>
            </a:r>
            <a:r>
              <a:rPr b="1" lang="ru-RU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(Cu(O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H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</a:t>
            </a:r>
            <a:r>
              <a:rPr b="1" lang="ru-RU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Cu(O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H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</a:t>
            </a:r>
            <a:r>
              <a:rPr b="1" lang="ru-RU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14.7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(Cu(O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H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</a:t>
            </a:r>
            <a:r>
              <a:rPr b="1" lang="ru-RU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=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 =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0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,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15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98 г/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x = n(CuO) = n(Cu(O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H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</a:t>
            </a:r>
            <a:r>
              <a:rPr b="1" lang="ru-RU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 = 0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, 15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(CuO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) =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(CuO)·M(CuO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0,15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·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80 г/моль = 12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Ответ: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m(CuO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)  = 1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33440" y="1484280"/>
            <a:ext cx="2517480" cy="2016000"/>
            <a:chOff x="1333440" y="1484280"/>
            <a:chExt cx="2517480" cy="2016000"/>
          </a:xfrm>
        </p:grpSpPr>
        <p:sp>
          <p:nvSpPr>
            <p:cNvPr id="132" name=""/>
            <p:cNvSpPr/>
            <p:nvPr/>
          </p:nvSpPr>
          <p:spPr>
            <a:xfrm>
              <a:off x="1333440" y="2852640"/>
              <a:ext cx="25174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0920" y="148428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11280" y="228600"/>
            <a:ext cx="838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Bookman Old Style"/>
              </a:rPr>
              <a:t>Вычислите массу оксида меди </a:t>
            </a:r>
            <a:r>
              <a:rPr b="1" i="1" lang="en-US" sz="2400" spc="-1" strike="noStrike">
                <a:solidFill>
                  <a:srgbClr val="cc3300"/>
                </a:solidFill>
                <a:latin typeface="Bookman Old Style"/>
              </a:rPr>
              <a:t>(II)</a:t>
            </a:r>
            <a:r>
              <a:rPr b="1" i="1" lang="ru-RU" sz="2400" spc="-1" strike="noStrike">
                <a:solidFill>
                  <a:srgbClr val="cc3300"/>
                </a:solidFill>
                <a:latin typeface="Bookman Old Style"/>
              </a:rPr>
              <a:t>, образующегося при разложении 14,7 г гидроксида меди </a:t>
            </a:r>
            <a:r>
              <a:rPr b="1" i="1" lang="en-US" sz="2400" spc="-1" strike="noStrike">
                <a:solidFill>
                  <a:srgbClr val="cc3300"/>
                </a:solidFill>
                <a:latin typeface="Bookman Old Style"/>
              </a:rPr>
              <a:t>(II)</a:t>
            </a:r>
            <a:r>
              <a:rPr b="1" i="1" lang="ru-RU" sz="2400" spc="-1" strike="noStrike">
                <a:solidFill>
                  <a:srgbClr val="cc33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31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400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lastslide"/>
          </p:cNvPr>
          <p:cNvSpPr/>
          <p:nvPr/>
        </p:nvSpPr>
        <p:spPr>
          <a:xfrm>
            <a:off x="39528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Bookman Old Style"/>
              </a:rPr>
              <a:t>П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8360" y="6165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309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Дано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900" spc="-1" strike="noStrike">
                <a:solidFill>
                  <a:srgbClr val="663300"/>
                </a:solidFill>
                <a:latin typeface="Bookman Old Style"/>
              </a:rPr>
              <a:t>Zn)</a:t>
            </a: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=</a:t>
            </a:r>
            <a:r>
              <a:rPr b="1" lang="en-US" sz="1900" spc="-1" strike="noStrike">
                <a:solidFill>
                  <a:srgbClr val="663300"/>
                </a:solidFill>
                <a:latin typeface="Bookman Old Style"/>
              </a:rPr>
              <a:t>13 </a:t>
            </a: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Bookman Old Style"/>
              </a:rPr>
              <a:t>m(ZnCl</a:t>
            </a:r>
            <a:r>
              <a:rPr b="1" lang="en-US" sz="19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) – 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(Zn) = 65 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г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M(ZnCl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)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=65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+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35,5·2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=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136 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г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5280" y="1484280"/>
            <a:ext cx="4824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Решени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  </a:t>
            </a: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0,</a:t>
            </a:r>
            <a:r>
              <a:rPr b="1" lang="en-US" sz="1900" spc="-1" strike="noStrike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 моль      </a:t>
            </a:r>
            <a:r>
              <a:rPr b="1" lang="en-US" sz="1900" spc="-1" strike="noStrike">
                <a:solidFill>
                  <a:srgbClr val="663300"/>
                </a:solidFill>
                <a:latin typeface="Bookman Old Style"/>
              </a:rPr>
              <a:t>       x</a:t>
            </a: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en-US" sz="2100" spc="-1" strike="noStrike">
                <a:solidFill>
                  <a:srgbClr val="663300"/>
                </a:solidFill>
                <a:latin typeface="Bookman Old Style"/>
              </a:rPr>
              <a:t>Zn + 2HCl = ZnCl</a:t>
            </a:r>
            <a:r>
              <a:rPr b="1" lang="en-US" sz="21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100" spc="-1" strike="noStrike">
                <a:solidFill>
                  <a:srgbClr val="663300"/>
                </a:solidFill>
                <a:latin typeface="Bookman Old Style"/>
              </a:rPr>
              <a:t> + H</a:t>
            </a:r>
            <a:r>
              <a:rPr b="1" lang="en-US" sz="21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100" spc="-1" strike="noStrike">
                <a:solidFill>
                  <a:srgbClr val="663300"/>
                </a:solidFill>
                <a:latin typeface="Bookman Old Style"/>
              </a:rPr>
              <a:t>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Bookman Old Style"/>
              </a:rPr>
              <a:t>   </a:t>
            </a:r>
            <a:r>
              <a:rPr b="1" lang="en-US" sz="1900" spc="-1" strike="noStrike">
                <a:solidFill>
                  <a:srgbClr val="663300"/>
                </a:solidFill>
                <a:latin typeface="Bookman Old Style"/>
              </a:rPr>
              <a:t>1 </a:t>
            </a: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моль          </a:t>
            </a:r>
            <a:r>
              <a:rPr b="1" lang="en-US" sz="1900" spc="-1" strike="noStrike">
                <a:solidFill>
                  <a:srgbClr val="663300"/>
                </a:solidFill>
                <a:latin typeface="Bookman Old Style"/>
              </a:rPr>
              <a:t>    1</a:t>
            </a:r>
            <a:r>
              <a:rPr b="1" lang="ru-RU" sz="19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Bookman Old Style"/>
              </a:rPr>
              <a:t>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Bookman Old Style"/>
              </a:rPr>
              <a:t>        </a:t>
            </a:r>
            <a:r>
              <a:rPr b="1" lang="en-US" sz="1200" spc="-1" strike="noStrike">
                <a:solidFill>
                  <a:srgbClr val="663300"/>
                </a:solidFill>
                <a:latin typeface="Bookman Old Style"/>
              </a:rPr>
              <a:t>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Z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(Zn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Z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13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(Zn)=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 =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0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,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65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г/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x = n(ZnCl</a:t>
            </a:r>
            <a:r>
              <a:rPr b="1" lang="en-US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 = n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(Zn) = 0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,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(ZnCl</a:t>
            </a:r>
            <a:r>
              <a:rPr b="1" lang="en-US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) =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(ZnCl</a:t>
            </a:r>
            <a:r>
              <a:rPr b="1" lang="en-US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·M(ZnCl</a:t>
            </a:r>
            <a:r>
              <a:rPr b="1" lang="en-US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0,2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·136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г/моль =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27,2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       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Ответ: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m(ZnCl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)  =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27,2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33440" y="1484280"/>
            <a:ext cx="2517480" cy="2016000"/>
            <a:chOff x="1333440" y="1484280"/>
            <a:chExt cx="2517480" cy="2016000"/>
          </a:xfrm>
        </p:grpSpPr>
        <p:sp>
          <p:nvSpPr>
            <p:cNvPr id="142" name=""/>
            <p:cNvSpPr/>
            <p:nvPr/>
          </p:nvSpPr>
          <p:spPr>
            <a:xfrm>
              <a:off x="1333440" y="2852640"/>
              <a:ext cx="25174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50920" y="148428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39640" y="228600"/>
            <a:ext cx="845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Bookman Old Style"/>
              </a:rPr>
              <a:t>Рассчитайте массу соли, которая образуется при взаимодействии 13 г цинка с соляной кисл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3068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3933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lastslide"/>
          </p:cNvPr>
          <p:cNvSpPr/>
          <p:nvPr/>
        </p:nvSpPr>
        <p:spPr>
          <a:xfrm>
            <a:off x="39528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Bookman Old Style"/>
              </a:rPr>
              <a:t>П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8360" y="6165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c55f"/>
            </a:gs>
            <a:gs pos="50000">
              <a:srgbClr val="ffffff"/>
            </a:gs>
            <a:gs pos="100000">
              <a:srgbClr val="6ec5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258920" y="1557360"/>
            <a:ext cx="2736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MgO)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=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 6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V(O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) –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M(MgO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24+16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40 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г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V</a:t>
            </a:r>
            <a:r>
              <a:rPr b="0" i="1" lang="ru-RU" sz="2000" spc="-1" strike="noStrike">
                <a:solidFill>
                  <a:srgbClr val="663300"/>
                </a:solidFill>
                <a:latin typeface="Bookman Old Style"/>
              </a:rPr>
              <a:t>м</a:t>
            </a: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Bookman Old Style"/>
              </a:rPr>
              <a:t>22,4 </a:t>
            </a:r>
            <a:r>
              <a:rPr b="0" lang="ru-RU" sz="2000" spc="-1" strike="noStrike">
                <a:solidFill>
                  <a:srgbClr val="663300"/>
                </a:solidFill>
                <a:latin typeface="Bookman Old Style"/>
              </a:rPr>
              <a:t>л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64000" y="1484280"/>
            <a:ext cx="5580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                       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0,15 моль    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    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x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en-US" sz="2100" spc="-1" strike="noStrike">
                <a:solidFill>
                  <a:srgbClr val="663300"/>
                </a:solidFill>
                <a:latin typeface="Bookman Old Style"/>
              </a:rPr>
              <a:t>2MgO = </a:t>
            </a:r>
            <a:r>
              <a:rPr b="1" lang="ru-RU" sz="2100" spc="-1" strike="noStrike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100" spc="-1" strike="noStrike">
                <a:solidFill>
                  <a:srgbClr val="663300"/>
                </a:solidFill>
                <a:latin typeface="Bookman Old Style"/>
              </a:rPr>
              <a:t>Mg + O</a:t>
            </a:r>
            <a:r>
              <a:rPr b="1" lang="en-US" sz="21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100" spc="-1" strike="noStrike">
                <a:solidFill>
                  <a:srgbClr val="663300"/>
                </a:solidFill>
                <a:latin typeface="Bookman Old Style"/>
              </a:rPr>
              <a:t>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Bookman Old Style"/>
              </a:rPr>
              <a:t>   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2 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моль         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     1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(MgO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(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M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6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(MgO)=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      =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0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,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15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        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40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г/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x = n(O</a:t>
            </a:r>
            <a:r>
              <a:rPr b="1" lang="en-US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 = ½ n(MgO) = 1/2·0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, 15 моль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0,075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V(O</a:t>
            </a:r>
            <a:r>
              <a:rPr b="1" lang="en-US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) = 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n(O</a:t>
            </a:r>
            <a:r>
              <a:rPr b="1" lang="en-US" sz="18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)·Vm = 0,075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моль</a:t>
            </a:r>
            <a:r>
              <a:rPr b="1" lang="en-US" sz="1800" spc="-1" strike="noStrike">
                <a:solidFill>
                  <a:srgbClr val="663300"/>
                </a:solidFill>
                <a:latin typeface="Bookman Old Style"/>
              </a:rPr>
              <a:t>·22,4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л/моль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1,68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Ответ: 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V(O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Bookman Old Style"/>
              </a:rPr>
              <a:t>2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 = 1</a:t>
            </a:r>
            <a:r>
              <a:rPr b="1" lang="en-US" sz="2000" spc="-1" strike="noStrike">
                <a:solidFill>
                  <a:srgbClr val="663300"/>
                </a:solidFill>
                <a:latin typeface="Bookman Old Style"/>
              </a:rPr>
              <a:t>,68</a:t>
            </a:r>
            <a:r>
              <a:rPr b="1" lang="ru-RU" sz="2000" spc="-1" strike="noStrike">
                <a:solidFill>
                  <a:srgbClr val="663300"/>
                </a:solidFill>
                <a:latin typeface="Bookman Old Style"/>
              </a:rPr>
              <a:t>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333440" y="1484280"/>
            <a:ext cx="2517480" cy="2016000"/>
            <a:chOff x="1333440" y="1484280"/>
            <a:chExt cx="2517480" cy="2016000"/>
          </a:xfrm>
        </p:grpSpPr>
        <p:sp>
          <p:nvSpPr>
            <p:cNvPr id="152" name=""/>
            <p:cNvSpPr/>
            <p:nvPr/>
          </p:nvSpPr>
          <p:spPr>
            <a:xfrm>
              <a:off x="1333440" y="2852640"/>
              <a:ext cx="25174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50920" y="148428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971640" y="260280"/>
            <a:ext cx="73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Bookman Old Style"/>
              </a:rPr>
              <a:t>Какой объем кислорода (н.у.) образуется при разложении 6 г оксида маг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3141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400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lastslide"/>
          </p:cNvPr>
          <p:cNvSpPr/>
          <p:nvPr/>
        </p:nvSpPr>
        <p:spPr>
          <a:xfrm>
            <a:off x="39528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Bookman Old Style"/>
              </a:rPr>
              <a:t>П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8360" y="6165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8:03:37Z</dcterms:created>
  <dc:creator>USER</dc:creator>
  <dc:description/>
  <dc:language>en-US</dc:language>
  <cp:lastModifiedBy>User</cp:lastModifiedBy>
  <dcterms:modified xsi:type="dcterms:W3CDTF">2009-07-25T07:41:17Z</dcterms:modified>
  <cp:revision>10</cp:revision>
  <dc:subject/>
  <dc:title>Слайд 1</dc:title>
</cp:coreProperties>
</file>